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30B8-C053-4635-AA3D-187D327C4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31A2-3556-4947-90F4-21EE2F240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79A9-C8EC-47EA-B387-C2661B97B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7C0F-CB85-4332-9B2B-1373B85AA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B6ADE-B13F-49F2-85A3-FC6F71FAA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F9302-1703-4374-91B0-F1BBE1C99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067C8-6C68-44D9-A4A0-C09967C79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2B99C-C43A-44C3-88B9-C20438632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8CD5C-1A5B-4DDF-859B-8DABD21EF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DFDB5-7186-4393-8C68-0B7CE391C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B40BE-E578-496F-B048-285F2D20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70FE-AA33-4909-B34C-138DE6E57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28408-1E30-42EC-94E9-5A976E2A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D1663-F1FE-4AAC-A6F0-119E0F57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859BB-28BF-4E4E-B16B-778D25259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857AC-5B1C-4655-B04E-FEACD4ACD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63A35-2A36-4A24-96F4-043DB35FC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B9C3-C541-47EC-9FEB-E2CCFF494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4A3F-DF92-42D4-A07F-3889A409E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CFAB-6157-49FC-80F0-610E2D928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E153-B5BC-45F7-B725-5F14D3F48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857B-B43C-496C-990D-8711A0C4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5444-E019-47E6-978A-45787FC4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A389-A8F8-4372-A473-EFBBD270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gency FB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gency FB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gency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Agency FB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gency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Agency FB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gency FB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gency FB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gency FB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gency FB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gency FB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gency FB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gency FB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CF8A7-2831-49C1-B286-4EE23A2E4F24}" type="slidenum">
              <a:rPr b="0" lang="en-US" sz="1400" spc="-1" strike="noStrike">
                <a:solidFill>
                  <a:srgbClr val="ffffff"/>
                </a:solidFill>
                <a:latin typeface="Agency F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gency F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gency FB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gency FB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gency FB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gency FB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gency FB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gency FB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51508-1101-49D1-ADEA-5C0293CBAD44}" type="slidenum">
              <a:rPr b="0" lang="en-US" sz="1400" spc="-1" strike="noStrike">
                <a:solidFill>
                  <a:srgbClr val="ffffff"/>
                </a:solidFill>
                <a:latin typeface="Agency F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gency F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266688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ee941c"/>
                </a:solidFill>
                <a:latin typeface="Agency FB"/>
              </a:rPr>
              <a:t>2007  Goals</a:t>
            </a:r>
            <a:br>
              <a:rPr sz="5100"/>
            </a:br>
            <a:r>
              <a:rPr b="1" lang="en-US" sz="1400" spc="-1" strike="noStrike">
                <a:solidFill>
                  <a:srgbClr val="ee941c"/>
                </a:solidFill>
                <a:latin typeface="Agency FB"/>
              </a:rPr>
              <a:t>RMS Meeting January 10, 2007</a:t>
            </a:r>
            <a:r>
              <a:rPr b="1" lang="en-US" sz="1200" spc="-1" strike="noStrike">
                <a:solidFill>
                  <a:srgbClr val="ee941c"/>
                </a:solidFill>
                <a:latin typeface="Agency FB"/>
              </a:rPr>
              <a:t> </a:t>
            </a:r>
            <a:endParaRPr b="0" lang="en-US" sz="12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82" name=""/>
          <p:cNvSpPr/>
          <p:nvPr/>
        </p:nvSpPr>
        <p:spPr>
          <a:xfrm>
            <a:off x="3251160" y="685800"/>
            <a:ext cx="2733840" cy="2432160"/>
          </a:xfrm>
          <a:prstGeom prst="ellipse">
            <a:avLst/>
          </a:prstGeom>
          <a:solidFill>
            <a:srgbClr val="00008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83" name=""/>
          <p:cNvSpPr/>
          <p:nvPr/>
        </p:nvSpPr>
        <p:spPr>
          <a:xfrm>
            <a:off x="3424320" y="785880"/>
            <a:ext cx="2371680" cy="1942920"/>
          </a:xfrm>
          <a:prstGeom prst="star5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444920" y="2513160"/>
            <a:ext cx="344520" cy="37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0c0c0"/>
                </a:solidFill>
                <a:latin typeface="Niagara Solid"/>
              </a:rPr>
              <a:t>07</a:t>
            </a:r>
            <a:endParaRPr b="0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c0c0c0"/>
              </a:solidFill>
              <a:latin typeface="Niagara Solid"/>
              <a:ea typeface="Niagara Solid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819520" y="1160640"/>
            <a:ext cx="35812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8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0080"/>
                    </a:gs>
                    <a:gs pos="100000">
                      <a:srgbClr val="666699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c0c0c0"/>
                  </a:outerShdw>
                </a:effectLst>
                <a:latin typeface="Niagara Solid"/>
              </a:rPr>
              <a:t>TX SET</a:t>
            </a:r>
            <a:endParaRPr b="0" lang="en-US" sz="2400" spc="1" strike="noStrike">
              <a:ln w="255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0080"/>
                  </a:gs>
                  <a:gs pos="100000">
                    <a:srgbClr val="666699"/>
                  </a:gs>
                </a:gsLst>
                <a:lin ang="5400000"/>
              </a:gradFill>
              <a:effectLst>
                <a:outerShdw dist="38160" dir="5400000" blurRad="0" rotWithShape="0">
                  <a:srgbClr val="c0c0c0"/>
                </a:outerShdw>
              </a:effectLst>
              <a:latin typeface="Niagara Solid"/>
              <a:ea typeface="Niagara Soli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0880" y="1219320"/>
            <a:ext cx="8534520" cy="5333760"/>
          </a:xfrm>
          <a:prstGeom prst="rect">
            <a:avLst/>
          </a:prstGeom>
          <a:solidFill>
            <a:srgbClr val="0000a4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gency FB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Analyze Issues as they are presented to TX SET to determine if there is a Market need for another TX SET Release based on Market issues   </a:t>
            </a:r>
            <a:endParaRPr b="0" lang="en-US" sz="3600" spc="-1" strike="noStrike">
              <a:solidFill>
                <a:srgbClr val="ffffff"/>
              </a:solidFill>
              <a:latin typeface="Agency FB"/>
            </a:endParaRPr>
          </a:p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gency FB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Evaluate upcoming Rulemakings and determine their Transactional and Market impacts to current processes: </a:t>
            </a:r>
            <a:endParaRPr b="0" lang="en-US" sz="3600" spc="-1" strike="noStrike">
              <a:solidFill>
                <a:srgbClr val="ffffff"/>
              </a:solidFill>
              <a:latin typeface="Agency FB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gency FB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Automated Meter Reading 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gency FB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Changes for Drop to AREP Processing 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lvl="2" marL="1017000" indent="-2034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gency FB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Future for TX SET 814_10 Drop to AREP Transaction</a:t>
            </a:r>
            <a:endParaRPr b="0" lang="en-US" sz="2800" spc="-1" strike="noStrike">
              <a:solidFill>
                <a:srgbClr val="ffffff"/>
              </a:solidFill>
              <a:latin typeface="Agency FB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gency FB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Performance Measures 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e941c"/>
                </a:solidFill>
                <a:latin typeface="Agency FB"/>
              </a:rPr>
              <a:t>TX SET 2007 Goals </a:t>
            </a:r>
            <a:endParaRPr b="0" lang="en-US" sz="4800" spc="-1" strike="noStrike">
              <a:solidFill>
                <a:srgbClr val="ffffff"/>
              </a:solidFill>
              <a:latin typeface="Agency FB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80880" y="1219320"/>
            <a:ext cx="8534520" cy="5333760"/>
          </a:xfrm>
          <a:prstGeom prst="rect">
            <a:avLst/>
          </a:prstGeom>
          <a:solidFill>
            <a:srgbClr val="0000a4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6840" y="12952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gency FB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gency FB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Evaluate 814_20 Short Term Large Volume processing solution to determine if additional changes are warranted long term </a:t>
            </a:r>
            <a:endParaRPr b="0" lang="en-US" sz="3600" spc="-1" strike="noStrike">
              <a:solidFill>
                <a:srgbClr val="ffffff"/>
              </a:solidFill>
              <a:latin typeface="Agency FB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gency FB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Continue to Update Protocols and Retail Market Guide when and where necessary </a:t>
            </a:r>
            <a:endParaRPr b="0" lang="en-US" sz="3600" spc="-1" strike="noStrike">
              <a:solidFill>
                <a:srgbClr val="ffffff"/>
              </a:solidFill>
              <a:latin typeface="Agency FB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gency FB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Continue to maintain and update the Stacking documentation</a:t>
            </a:r>
            <a:endParaRPr b="0" lang="en-US" sz="3600" spc="-1" strike="noStrike">
              <a:solidFill>
                <a:srgbClr val="ffffff"/>
              </a:solidFill>
              <a:latin typeface="Agency FB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gency FB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gency FB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gency FB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gency FB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e941c"/>
                </a:solidFill>
                <a:latin typeface="Agency FB"/>
              </a:rPr>
              <a:t>TX SET Goals </a:t>
            </a:r>
            <a:endParaRPr b="0" lang="en-US" sz="4800" spc="-1" strike="noStrike">
              <a:solidFill>
                <a:srgbClr val="ffffff"/>
              </a:solidFill>
              <a:latin typeface="Agency FB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80880" y="1219320"/>
            <a:ext cx="8534520" cy="5333760"/>
          </a:xfrm>
          <a:prstGeom prst="rect">
            <a:avLst/>
          </a:prstGeom>
          <a:solidFill>
            <a:srgbClr val="0000a4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gency FB"/>
            </a:endParaRPr>
          </a:p>
          <a:p>
            <a:pPr marL="325800" indent="-325800">
              <a:spcBef>
                <a:spcPts val="901"/>
              </a:spcBef>
              <a:buClr>
                <a:srgbClr val="ff0000"/>
              </a:buClr>
              <a:buFont typeface="Agency FB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Continue to be involved with all market participants/meetings to provide assistance where needed</a:t>
            </a:r>
            <a:endParaRPr b="0" lang="en-US" sz="3600" spc="-1" strike="noStrike">
              <a:solidFill>
                <a:srgbClr val="ffffff"/>
              </a:solidFill>
              <a:latin typeface="Agency FB"/>
            </a:endParaRPr>
          </a:p>
          <a:p>
            <a:pPr marL="325800" indent="-325800">
              <a:spcBef>
                <a:spcPts val="901"/>
              </a:spcBef>
              <a:buClr>
                <a:srgbClr val="ff0000"/>
              </a:buClr>
              <a:buFont typeface="Agency FB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Always encourage all market participants to attend and participant in TX SET meetings and workshops</a:t>
            </a:r>
            <a:endParaRPr b="0" lang="en-US" sz="3600" spc="-1" strike="noStrike">
              <a:solidFill>
                <a:srgbClr val="ffffff"/>
              </a:solidFill>
              <a:latin typeface="Agency FB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gency FB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e941c"/>
                </a:solidFill>
                <a:latin typeface="Agency FB"/>
              </a:rPr>
              <a:t>TX SET Goals</a:t>
            </a:r>
            <a:endParaRPr b="0" lang="en-US" sz="4800" spc="-1" strike="noStrike">
              <a:solidFill>
                <a:srgbClr val="ffffff"/>
              </a:solidFill>
              <a:latin typeface="Agency FB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1T20:37:34Z</dcterms:created>
  <dc:creator>kpatrick</dc:creator>
  <dc:description/>
  <dc:language>en-US</dc:language>
  <cp:lastModifiedBy>Kathy Scott</cp:lastModifiedBy>
  <dcterms:modified xsi:type="dcterms:W3CDTF">2007-11-27T04:23:02Z</dcterms:modified>
  <cp:revision>41</cp:revision>
  <dc:subject/>
  <dc:title>PowerPoint Presentation</dc:title>
</cp:coreProperties>
</file>